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65C4-4318-4AF8-B4DE-0CC9B551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7B2-45B2-49E0-9982-FB28C3ED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F900-F6E5-4004-AFF1-3EACDB39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61E3-07F6-426B-A2AD-6C85A8CB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9ACA-3E45-4676-AC46-2A7D4C989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92DD-51C4-4C8A-BD1D-56479CEC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772B-7072-4CFF-B3E8-1FB1D293F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6503-525B-4338-B542-62E08CC7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5D38-96D1-46D1-800B-1864F447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56A0-2D6B-43A2-84D4-0E8663C1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1B30-E3C4-490D-88C8-21F94EFB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D3BD-239E-4ECA-B0DA-93DF3801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AB4E1-F04B-4BC3-9FDF-368987B3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4048D-5E15-4C6F-954F-B44858D5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625B0-1E2C-42C1-B649-6B922BA7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22C0-EE7B-4614-893E-0AE6E059A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E295-B170-402B-99C0-45CD0A2A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1E6049-0271-421D-9230-33428452C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341B5B-C6AA-4E6F-BC1B-53335A56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38357C-1F76-4FDF-923F-69D730B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CE235-1CC9-466A-8B80-D275CE0C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EDE58-6B2B-4DC8-8BA2-4926906C4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3D6D-F6D2-4595-BFD9-538D2578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A65F1-5E30-4E2A-84ED-14589C37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7DCAD9-4F5D-4ECD-9098-61F503A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026E54-2823-42C7-BF7B-24CC9488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3598A-185C-47AF-9952-4BC79635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2694-ADF1-4E56-B15B-FBC16260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1B4CBC-3D60-4789-AA07-4411A5C9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276D9-DD40-401C-9394-15037F8E4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68A3C-512A-4776-96E5-24400CAC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E021B-6114-47CF-9C46-A7E11CF4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6F28F-1745-4261-B46E-90C96F0F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3B0-5C9E-4472-989A-7A9B4869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61AA1-C24E-44DB-8DDC-D605394F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377EC-6A17-4C95-882F-0D857FEC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431C5-1CFF-4EA1-B2C8-4F9EDD9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9BF52-170B-4ADD-AC5E-21CA23FAE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9DEF-C58F-4711-A8F4-8DF464E2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1837-3581-4790-B1A7-AAB4F1EC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28F9F-0313-46B5-84F1-CB0721DE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E54F-568A-4D78-8D44-5F920365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F5534-7623-42EB-A281-AC5E37DAF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2EF6D-C686-4B2A-A66F-2FE0CD43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F88F-0B28-4175-B709-2F9E76F1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3CD76B-164C-42A1-B226-DE9C81BA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0C9B0-726F-428B-9315-7C5598FD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E72299-D812-4B53-AF0C-31D82CB8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91C2CF-AE9A-4F49-999A-58408093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EFBB84-34B0-4728-93DA-5CB49FE2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E89234-59EF-4910-851F-89F4DFE2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A2B7AC-2358-4E85-994C-9DB97AD6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23B64-D6C8-4C25-995D-E0898C90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C6F09-43DB-44F1-A44A-D8130338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ED8070-BF3A-4335-840A-7443E55E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EF7F-7646-4E31-9A42-47461A78C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33102-57A1-405D-8B8C-7ADA2A3C5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FFF1B1-4FEB-4BF3-BF92-4F6DD2C6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99438-89FE-4D85-ABAB-110F467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C7097D-90A6-4155-BE31-41132ADD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778F0F-A606-471B-8260-0C209FFE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FECFC9-6F8D-4ECD-89DA-11C664AD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78EA50-3E4E-4F1D-9952-7A18D9AC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C86E6-117F-48C6-A320-C1E0972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4B26DA-3366-4C5F-A3B8-2204BA2D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F5BD2B-6A51-4EBD-BB0B-C9E388D0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1A99-4E82-49E7-8101-B3B4D04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F70246-B5A3-426E-92F2-D76654F9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DE1E30-0C76-443F-A09F-3F6883B8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1E621-0A58-4692-9958-7BE1530E3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564FB-4E43-4A24-92DF-BE175D94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7A9489-BC65-44B6-8CE4-578EDD8E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345DBE-CC29-4C16-8AC2-8BD1C591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688DFC-B5B1-4B8D-996E-896E3DA5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9FBC07-A654-4CAB-8822-139B8F5C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24CF40-496F-4BDD-BCDE-238C7959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B40CB-ABFA-4745-B773-E1361D0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54E8-81DD-412F-8EF8-F35DA8E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2D43A2-0D0C-43BF-B2E0-D0205052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0AF2C-40FF-4777-BEAC-0DF46965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9C0F6-AE8C-4113-A57E-FFA29183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DBBE56-9F2D-4F7E-BF12-877150376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F34E97-EC26-4E7E-8ED3-E4E39A08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215A-1CE4-49C6-8139-EA6C88A2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94AF-5465-4A87-835B-22AC9C1724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E66D-FC0D-47EC-97C0-4D5A26EE38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76AC6-D57B-4D80-ADC6-405F34DDB0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9464-FDD9-424F-AD4D-46D31064EC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AB02-7DDF-42CB-9BA3-DA9389F62EA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A18-9F8E-4AD0-A296-04E9CB6CC1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E85BC-3794-40CB-BAD9-D8C187F773C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9000" y="1213920"/>
            <a:ext cx="5105520" cy="28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MĂ NUMESC BĂLAIE DORA REBECA ; AM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17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ANI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SUNT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ELEVA IN CLASA A XI D LA LICEUL TEORETIC ION AGARBICEANU ;PROFIL FILOLOGIE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ÎMI PLACE GEOGRAFIA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LIMBA SI LITERATURA ROMÂNĂ ŞI ENGLEZA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ÎN TIMPUL LIBER ÎMI PLACE SĂ CITESC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,</a:t>
            </a:r>
            <a:r>
              <a:rPr b="1" i="1" lang="ro-RO" sz="1800" spc="-1" strike="noStrike">
                <a:solidFill>
                  <a:srgbClr val="ffffff"/>
                </a:solidFill>
                <a:latin typeface="Bookman Old Style"/>
              </a:rPr>
              <a:t> SĂ MĂ PLIMB ÎN AER LIBER ŞI SĂ MĂ UIT LA FILME </a:t>
            </a:r>
            <a:r>
              <a:rPr b="1" i="1" lang="en-US" sz="1800" spc="-1" strike="noStrike">
                <a:solidFill>
                  <a:srgbClr val="ffffff"/>
                </a:solidFill>
                <a:latin typeface="Bookman Old Style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TextBox 4"/>
          <p:cNvSpPr/>
          <p:nvPr/>
        </p:nvSpPr>
        <p:spPr>
          <a:xfrm>
            <a:off x="2214720" y="142884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Mă numesc Bălaie Dora Rebeca. Am 17 ani şi învăţ la Liceul Teoretic ,,Ion Agârbiceanu” din Jibou,la profilul filolog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Dintre materii îmi plac Limba şi Literatura Română,Geografia şi Engle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n timpul liber mă relaxez citind cărţi,vizionând filme-în special comedii-şi ieşind cu prietenii me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ot spune despre mine că sunt o fire blândă,răbdătoare şi calmă.Îmi place să-i ajut pe ceilalţi,dar şi să-i ascult şi să le dau sfatur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6:19:37Z</dcterms:created>
  <dc:creator> </dc:creator>
  <dc:description/>
  <dc:language>en-US</dc:language>
  <cp:lastModifiedBy>ACASA-E8D545838</cp:lastModifiedBy>
  <dcterms:modified xsi:type="dcterms:W3CDTF">2011-10-19T20:28:31Z</dcterms:modified>
  <cp:revision>2</cp:revision>
  <dc:subject/>
  <dc:title>Mă numesc Bălaie Dora Rebeca ; am 17ani .Sunt eleva in clasa a XI D la Liceul Teoretic Ion Agarbiceanu ;profil filologie . Îmi place geografia ,limba si literatura română şi engleza . În timpul liber îmi place să citesc , să mă plimb în aer liber şi să mă uit la filme . </dc:title>
</cp:coreProperties>
</file>